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CAED9-64FF-4B1A-AA59-B46D9D7FB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8631-0543-4820-887B-F310A66CB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DACA-B58A-46A1-9727-C0651F4F9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4070-9036-4AA4-9FDD-970B02397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E2976-38B9-410D-ABA8-7C86088958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2896-A735-4431-9BB9-1E139B80E7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BBE99-8F73-4C48-B2C6-4C9064B007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D813-F327-4643-8106-A3C4B6ED62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F985-7FE3-4B9F-8F5E-C477BCEA64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46A9-DA17-440E-9ED5-0CBB911BBC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EAE7F-7A78-462F-9BF3-7BA7CF2197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2149-8FF6-47F1-99B2-544C9D697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28859-0CE9-41B6-BCF8-7F990A1C9D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09B09-A729-41A6-8DB2-87B8D3F84A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A8C2-2737-4964-99E2-FCB25150ED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628D6-B2EC-411A-91DE-E6059BE852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EE05F-BED6-4556-A087-3C509BD70F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9E2-084E-41C5-9C24-57D7A84DA0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235F-9C1E-4873-9C62-FCA3BDD1E2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962-F158-4D4E-AA86-0B00DB0C6A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487-6535-47FC-832D-C2A3DE6F1C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107-8181-4276-9373-A5995E3F87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A221-61B5-4B60-8CC3-4FCEB27C60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C31-6A30-499A-BB0F-A69B8C33B0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EF0-4A3C-429A-A352-8323F0AC04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50B-7BBC-4AE6-949D-3676B48D51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87A-D721-42AE-9683-A465315A6A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AA5-F380-4C97-8B5D-0AF7A1AE80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E6A-EA96-478F-89F5-899C6B88D7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985-1F84-4CDC-A101-C92D59E34B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AE8A-F4A2-463E-A536-A5E0B1BCF5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77A2-6ED2-4E94-9F71-AB810D04756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51FE-1366-44AE-A576-61DA105AD7D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7613-9917-4132-9574-0E79A6E5BA2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ECA0-E09D-4498-8C64-DFE1D6C79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E796-4062-466D-853F-F94E1F164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B7BD-BCC3-477E-B706-D2E34E7371FE}" type="slidenum">
              <a:rPr b="0" lang="ko-KR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19"/>
          <p:cNvGrpSpPr/>
          <p:nvPr/>
        </p:nvGrpSpPr>
        <p:grpSpPr>
          <a:xfrm>
            <a:off x="0" y="685800"/>
            <a:ext cx="9144000" cy="776160"/>
            <a:chOff x="0" y="685800"/>
            <a:chExt cx="9144000" cy="776160"/>
          </a:xfrm>
        </p:grpSpPr>
        <p:sp>
          <p:nvSpPr>
            <p:cNvPr id="3" name="Rectangle 304"/>
            <p:cNvSpPr/>
            <p:nvPr/>
          </p:nvSpPr>
          <p:spPr>
            <a:xfrm>
              <a:off x="0" y="685800"/>
              <a:ext cx="9144000" cy="23184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4" name="Rectangle 305"/>
            <p:cNvSpPr/>
            <p:nvPr/>
          </p:nvSpPr>
          <p:spPr>
            <a:xfrm>
              <a:off x="0" y="917640"/>
              <a:ext cx="9144000" cy="122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5" name="AutoShape 309"/>
            <p:cNvSpPr/>
            <p:nvPr/>
          </p:nvSpPr>
          <p:spPr>
            <a:xfrm>
              <a:off x="775008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6" name="AutoShape 310"/>
            <p:cNvSpPr/>
            <p:nvPr/>
          </p:nvSpPr>
          <p:spPr>
            <a:xfrm>
              <a:off x="842472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8" name="图片 1" descr=""/>
          <p:cNvPicPr/>
          <p:nvPr/>
        </p:nvPicPr>
        <p:blipFill>
          <a:blip r:embed="rId2"/>
          <a:stretch/>
        </p:blipFill>
        <p:spPr>
          <a:xfrm>
            <a:off x="6084720" y="6453360"/>
            <a:ext cx="358920" cy="360360"/>
          </a:xfrm>
          <a:prstGeom prst="rect">
            <a:avLst/>
          </a:prstGeom>
          <a:ln w="0">
            <a:noFill/>
          </a:ln>
        </p:spPr>
      </p:pic>
      <p:sp>
        <p:nvSpPr>
          <p:cNvPr id="9" name="TextBox 2"/>
          <p:cNvSpPr/>
          <p:nvPr/>
        </p:nvSpPr>
        <p:spPr>
          <a:xfrm>
            <a:off x="6372360" y="643896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华文行楷"/>
                <a:ea typeface="华文行楷"/>
              </a:rPr>
              <a:t>东北财经大学统计学院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2CFE-9472-4D35-81FB-F1B14B4AD40C}" type="slidenum">
              <a:rPr b="0" lang="ko-KR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319"/>
          <p:cNvGrpSpPr/>
          <p:nvPr/>
        </p:nvGrpSpPr>
        <p:grpSpPr>
          <a:xfrm>
            <a:off x="0" y="685800"/>
            <a:ext cx="9144000" cy="776160"/>
            <a:chOff x="0" y="685800"/>
            <a:chExt cx="9144000" cy="776160"/>
          </a:xfrm>
        </p:grpSpPr>
        <p:sp>
          <p:nvSpPr>
            <p:cNvPr id="49" name="Rectangle 304"/>
            <p:cNvSpPr/>
            <p:nvPr/>
          </p:nvSpPr>
          <p:spPr>
            <a:xfrm>
              <a:off x="0" y="685800"/>
              <a:ext cx="9144000" cy="23184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50" name="Rectangle 305"/>
            <p:cNvSpPr/>
            <p:nvPr/>
          </p:nvSpPr>
          <p:spPr>
            <a:xfrm>
              <a:off x="0" y="917640"/>
              <a:ext cx="9144000" cy="122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51" name="AutoShape 309"/>
            <p:cNvSpPr/>
            <p:nvPr/>
          </p:nvSpPr>
          <p:spPr>
            <a:xfrm>
              <a:off x="775008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52" name="AutoShape 310"/>
            <p:cNvSpPr/>
            <p:nvPr/>
          </p:nvSpPr>
          <p:spPr>
            <a:xfrm>
              <a:off x="842472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6783480" y="6465960"/>
            <a:ext cx="2340000" cy="315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d5c00"/>
            </a:outerShdw>
          </a:effectLst>
        </p:spPr>
      </p:pic>
      <p:pic>
        <p:nvPicPr>
          <p:cNvPr id="55" name="图片 1" descr=""/>
          <p:cNvPicPr/>
          <p:nvPr/>
        </p:nvPicPr>
        <p:blipFill>
          <a:blip r:embed="rId3"/>
          <a:stretch/>
        </p:blipFill>
        <p:spPr>
          <a:xfrm>
            <a:off x="6332400" y="6421320"/>
            <a:ext cx="405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Num" idx="3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E551-33E7-4302-ACA0-42F82926F4C0}" type="slidenum">
              <a:rPr b="0" lang="ko-KR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319"/>
          <p:cNvGrpSpPr/>
          <p:nvPr/>
        </p:nvGrpSpPr>
        <p:grpSpPr>
          <a:xfrm>
            <a:off x="0" y="685800"/>
            <a:ext cx="9144000" cy="776160"/>
            <a:chOff x="0" y="685800"/>
            <a:chExt cx="9144000" cy="776160"/>
          </a:xfrm>
        </p:grpSpPr>
        <p:sp>
          <p:nvSpPr>
            <p:cNvPr id="95" name="Rectangle 304"/>
            <p:cNvSpPr/>
            <p:nvPr/>
          </p:nvSpPr>
          <p:spPr>
            <a:xfrm>
              <a:off x="0" y="685800"/>
              <a:ext cx="9144000" cy="23184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96" name="Rectangle 305"/>
            <p:cNvSpPr/>
            <p:nvPr/>
          </p:nvSpPr>
          <p:spPr>
            <a:xfrm>
              <a:off x="0" y="917640"/>
              <a:ext cx="9144000" cy="122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97" name="AutoShape 309"/>
            <p:cNvSpPr/>
            <p:nvPr/>
          </p:nvSpPr>
          <p:spPr>
            <a:xfrm>
              <a:off x="775008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98" name="AutoShape 310"/>
            <p:cNvSpPr/>
            <p:nvPr/>
          </p:nvSpPr>
          <p:spPr>
            <a:xfrm>
              <a:off x="842472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6783480" y="6465960"/>
            <a:ext cx="2340000" cy="315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d5c00"/>
            </a:outerShdw>
          </a:effectLst>
        </p:spPr>
      </p:pic>
      <p:pic>
        <p:nvPicPr>
          <p:cNvPr id="101" name="图片 1" descr=""/>
          <p:cNvPicPr/>
          <p:nvPr/>
        </p:nvPicPr>
        <p:blipFill>
          <a:blip r:embed="rId3"/>
          <a:stretch/>
        </p:blipFill>
        <p:spPr>
          <a:xfrm>
            <a:off x="6332400" y="6421320"/>
            <a:ext cx="405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807"/>
          <p:cNvGrpSpPr/>
          <p:nvPr/>
        </p:nvGrpSpPr>
        <p:grpSpPr>
          <a:xfrm>
            <a:off x="0" y="1081080"/>
            <a:ext cx="9144000" cy="5776920"/>
            <a:chOff x="0" y="1081080"/>
            <a:chExt cx="9144000" cy="5776920"/>
          </a:xfrm>
        </p:grpSpPr>
        <p:sp>
          <p:nvSpPr>
            <p:cNvPr id="139" name="Rectangle 2803"/>
            <p:cNvSpPr/>
            <p:nvPr/>
          </p:nvSpPr>
          <p:spPr>
            <a:xfrm>
              <a:off x="0" y="3691080"/>
              <a:ext cx="9144000" cy="3166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grpSp>
          <p:nvGrpSpPr>
            <p:cNvPr id="140" name="Group 2806"/>
            <p:cNvGrpSpPr/>
            <p:nvPr/>
          </p:nvGrpSpPr>
          <p:grpSpPr>
            <a:xfrm>
              <a:off x="0" y="1081080"/>
              <a:ext cx="9144000" cy="2817720"/>
              <a:chOff x="0" y="1081080"/>
              <a:chExt cx="9144000" cy="2817720"/>
            </a:xfrm>
          </p:grpSpPr>
          <p:sp>
            <p:nvSpPr>
              <p:cNvPr id="141" name="Rectangle 2784"/>
              <p:cNvSpPr/>
              <p:nvPr/>
            </p:nvSpPr>
            <p:spPr>
              <a:xfrm>
                <a:off x="0" y="3298680"/>
                <a:ext cx="9144000" cy="392400"/>
              </a:xfrm>
              <a:prstGeom prst="rect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2f4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  <p:sp>
            <p:nvSpPr>
              <p:cNvPr id="142" name="Rectangle 2787"/>
              <p:cNvSpPr/>
              <p:nvPr/>
            </p:nvSpPr>
            <p:spPr>
              <a:xfrm>
                <a:off x="0" y="3691080"/>
                <a:ext cx="9144000" cy="2077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  <p:grpSp>
            <p:nvGrpSpPr>
              <p:cNvPr id="143" name="Group 2804"/>
              <p:cNvGrpSpPr/>
              <p:nvPr/>
            </p:nvGrpSpPr>
            <p:grpSpPr>
              <a:xfrm>
                <a:off x="522360" y="1081080"/>
                <a:ext cx="1687320" cy="1204920"/>
                <a:chOff x="522360" y="1081080"/>
                <a:chExt cx="1687320" cy="1204920"/>
              </a:xfrm>
            </p:grpSpPr>
            <p:sp>
              <p:nvSpPr>
                <p:cNvPr id="144" name="Rectangle 2795"/>
                <p:cNvSpPr/>
                <p:nvPr/>
              </p:nvSpPr>
              <p:spPr>
                <a:xfrm>
                  <a:off x="522360" y="1081080"/>
                  <a:ext cx="16344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  <p:sp>
              <p:nvSpPr>
                <p:cNvPr id="145" name="Rectangle 2796"/>
                <p:cNvSpPr/>
                <p:nvPr/>
              </p:nvSpPr>
              <p:spPr>
                <a:xfrm>
                  <a:off x="903240" y="1380960"/>
                  <a:ext cx="163440" cy="1638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  <p:sp>
              <p:nvSpPr>
                <p:cNvPr id="146" name="Rectangle 2797"/>
                <p:cNvSpPr/>
                <p:nvPr/>
              </p:nvSpPr>
              <p:spPr>
                <a:xfrm>
                  <a:off x="1447920" y="1217520"/>
                  <a:ext cx="16344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  <p:sp>
              <p:nvSpPr>
                <p:cNvPr id="147" name="Rectangle 2798"/>
                <p:cNvSpPr/>
                <p:nvPr/>
              </p:nvSpPr>
              <p:spPr>
                <a:xfrm>
                  <a:off x="1284120" y="1741320"/>
                  <a:ext cx="163800" cy="1638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  <p:sp>
              <p:nvSpPr>
                <p:cNvPr id="148" name="Rectangle 2799"/>
                <p:cNvSpPr/>
                <p:nvPr/>
              </p:nvSpPr>
              <p:spPr>
                <a:xfrm>
                  <a:off x="1665360" y="2122560"/>
                  <a:ext cx="16344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  <p:sp>
              <p:nvSpPr>
                <p:cNvPr id="149" name="Rectangle 2800"/>
                <p:cNvSpPr/>
                <p:nvPr/>
              </p:nvSpPr>
              <p:spPr>
                <a:xfrm>
                  <a:off x="2046240" y="1741320"/>
                  <a:ext cx="163440" cy="1638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  <p:sp>
              <p:nvSpPr>
                <p:cNvPr id="150" name="Rectangle 2801"/>
                <p:cNvSpPr/>
                <p:nvPr/>
              </p:nvSpPr>
              <p:spPr>
                <a:xfrm>
                  <a:off x="820800" y="2038320"/>
                  <a:ext cx="16344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</p:grpSp>
        </p:grpSp>
      </p:grpSp>
      <p:grpSp>
        <p:nvGrpSpPr>
          <p:cNvPr id="151" name="Group 2805"/>
          <p:cNvGrpSpPr/>
          <p:nvPr/>
        </p:nvGrpSpPr>
        <p:grpSpPr>
          <a:xfrm>
            <a:off x="4952880" y="3857760"/>
            <a:ext cx="3657600" cy="741240"/>
            <a:chOff x="4952880" y="3857760"/>
            <a:chExt cx="3657600" cy="741240"/>
          </a:xfrm>
        </p:grpSpPr>
        <p:sp>
          <p:nvSpPr>
            <p:cNvPr id="152" name="AutoShape 2788"/>
            <p:cNvSpPr/>
            <p:nvPr/>
          </p:nvSpPr>
          <p:spPr>
            <a:xfrm>
              <a:off x="4952880" y="3857760"/>
              <a:ext cx="954360" cy="741240"/>
            </a:xfrm>
            <a:custGeom>
              <a:avLst/>
              <a:gdLst>
                <a:gd name="textAreaLeft" fmla="*/ 0 w 954360"/>
                <a:gd name="textAreaRight" fmla="*/ 954720 w 95436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153" name="AutoShape 2792"/>
            <p:cNvSpPr/>
            <p:nvPr/>
          </p:nvSpPr>
          <p:spPr>
            <a:xfrm>
              <a:off x="5857920" y="385776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154" name="AutoShape 2793"/>
            <p:cNvSpPr/>
            <p:nvPr/>
          </p:nvSpPr>
          <p:spPr>
            <a:xfrm>
              <a:off x="6742080" y="385776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155" name="AutoShape 2794"/>
            <p:cNvSpPr/>
            <p:nvPr/>
          </p:nvSpPr>
          <p:spPr>
            <a:xfrm>
              <a:off x="7656480" y="385776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pic>
        <p:nvPicPr>
          <p:cNvPr id="156" name="图片 29" descr=""/>
          <p:cNvPicPr/>
          <p:nvPr/>
        </p:nvPicPr>
        <p:blipFill>
          <a:blip r:embed="rId3"/>
          <a:stretch/>
        </p:blipFill>
        <p:spPr>
          <a:xfrm>
            <a:off x="2209680" y="5364000"/>
            <a:ext cx="4943520" cy="857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5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806"/>
          <p:cNvGrpSpPr/>
          <p:nvPr/>
        </p:nvGrpSpPr>
        <p:grpSpPr>
          <a:xfrm>
            <a:off x="0" y="504720"/>
            <a:ext cx="9144000" cy="2817720"/>
            <a:chOff x="0" y="504720"/>
            <a:chExt cx="9144000" cy="2817720"/>
          </a:xfrm>
        </p:grpSpPr>
        <p:sp>
          <p:nvSpPr>
            <p:cNvPr id="198" name="Rectangle 2784"/>
            <p:cNvSpPr/>
            <p:nvPr/>
          </p:nvSpPr>
          <p:spPr>
            <a:xfrm>
              <a:off x="0" y="2722320"/>
              <a:ext cx="9144000" cy="39240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199" name="Rectangle 2787"/>
            <p:cNvSpPr/>
            <p:nvPr/>
          </p:nvSpPr>
          <p:spPr>
            <a:xfrm>
              <a:off x="0" y="3114720"/>
              <a:ext cx="9144000" cy="207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grpSp>
          <p:nvGrpSpPr>
            <p:cNvPr id="200" name="Group 2804"/>
            <p:cNvGrpSpPr/>
            <p:nvPr/>
          </p:nvGrpSpPr>
          <p:grpSpPr>
            <a:xfrm>
              <a:off x="522360" y="504720"/>
              <a:ext cx="1687320" cy="1204920"/>
              <a:chOff x="522360" y="504720"/>
              <a:chExt cx="1687320" cy="1204920"/>
            </a:xfrm>
          </p:grpSpPr>
          <p:sp>
            <p:nvSpPr>
              <p:cNvPr id="201" name="Rectangle 2795"/>
              <p:cNvSpPr/>
              <p:nvPr/>
            </p:nvSpPr>
            <p:spPr>
              <a:xfrm>
                <a:off x="522360" y="504720"/>
                <a:ext cx="163440" cy="1634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  <p:sp>
            <p:nvSpPr>
              <p:cNvPr id="202" name="Rectangle 2796"/>
              <p:cNvSpPr/>
              <p:nvPr/>
            </p:nvSpPr>
            <p:spPr>
              <a:xfrm>
                <a:off x="903240" y="804600"/>
                <a:ext cx="163440" cy="1638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  <p:sp>
            <p:nvSpPr>
              <p:cNvPr id="203" name="Rectangle 2797"/>
              <p:cNvSpPr/>
              <p:nvPr/>
            </p:nvSpPr>
            <p:spPr>
              <a:xfrm>
                <a:off x="1447920" y="641160"/>
                <a:ext cx="163440" cy="1634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  <p:sp>
            <p:nvSpPr>
              <p:cNvPr id="204" name="Rectangle 2798"/>
              <p:cNvSpPr/>
              <p:nvPr/>
            </p:nvSpPr>
            <p:spPr>
              <a:xfrm>
                <a:off x="1284120" y="1164960"/>
                <a:ext cx="163800" cy="1638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  <p:sp>
            <p:nvSpPr>
              <p:cNvPr id="205" name="Rectangle 2799"/>
              <p:cNvSpPr/>
              <p:nvPr/>
            </p:nvSpPr>
            <p:spPr>
              <a:xfrm>
                <a:off x="1665360" y="1546200"/>
                <a:ext cx="163440" cy="1634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  <p:sp>
            <p:nvSpPr>
              <p:cNvPr id="206" name="Rectangle 2800"/>
              <p:cNvSpPr/>
              <p:nvPr/>
            </p:nvSpPr>
            <p:spPr>
              <a:xfrm>
                <a:off x="2046240" y="1164960"/>
                <a:ext cx="163440" cy="1638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  <p:sp>
            <p:nvSpPr>
              <p:cNvPr id="207" name="Rectangle 2801"/>
              <p:cNvSpPr/>
              <p:nvPr/>
            </p:nvSpPr>
            <p:spPr>
              <a:xfrm>
                <a:off x="820800" y="1461960"/>
                <a:ext cx="163440" cy="1634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</p:grpSp>
      </p:grpSp>
      <p:grpSp>
        <p:nvGrpSpPr>
          <p:cNvPr id="208" name="Group 2805"/>
          <p:cNvGrpSpPr/>
          <p:nvPr/>
        </p:nvGrpSpPr>
        <p:grpSpPr>
          <a:xfrm>
            <a:off x="4983120" y="3298680"/>
            <a:ext cx="3657600" cy="741240"/>
            <a:chOff x="4983120" y="3298680"/>
            <a:chExt cx="3657600" cy="741240"/>
          </a:xfrm>
        </p:grpSpPr>
        <p:sp>
          <p:nvSpPr>
            <p:cNvPr id="209" name="AutoShape 2788"/>
            <p:cNvSpPr/>
            <p:nvPr/>
          </p:nvSpPr>
          <p:spPr>
            <a:xfrm>
              <a:off x="4983120" y="3298680"/>
              <a:ext cx="954360" cy="741240"/>
            </a:xfrm>
            <a:custGeom>
              <a:avLst/>
              <a:gdLst>
                <a:gd name="textAreaLeft" fmla="*/ 0 w 954360"/>
                <a:gd name="textAreaRight" fmla="*/ 954720 w 95436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210" name="AutoShape 2792"/>
            <p:cNvSpPr/>
            <p:nvPr/>
          </p:nvSpPr>
          <p:spPr>
            <a:xfrm>
              <a:off x="5888160" y="329868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211" name="AutoShape 2793"/>
            <p:cNvSpPr/>
            <p:nvPr/>
          </p:nvSpPr>
          <p:spPr>
            <a:xfrm>
              <a:off x="6772320" y="329868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212" name="AutoShape 2794"/>
            <p:cNvSpPr/>
            <p:nvPr/>
          </p:nvSpPr>
          <p:spPr>
            <a:xfrm>
              <a:off x="7686720" y="329868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pic>
        <p:nvPicPr>
          <p:cNvPr id="213" name="图片 27" descr=""/>
          <p:cNvPicPr/>
          <p:nvPr/>
        </p:nvPicPr>
        <p:blipFill>
          <a:blip r:embed="rId2"/>
          <a:stretch/>
        </p:blipFill>
        <p:spPr>
          <a:xfrm>
            <a:off x="7583400" y="1760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6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7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806"/>
          <p:cNvGrpSpPr/>
          <p:nvPr/>
        </p:nvGrpSpPr>
        <p:grpSpPr>
          <a:xfrm>
            <a:off x="0" y="504720"/>
            <a:ext cx="9144000" cy="2817720"/>
            <a:chOff x="0" y="504720"/>
            <a:chExt cx="9144000" cy="2817720"/>
          </a:xfrm>
        </p:grpSpPr>
        <p:sp>
          <p:nvSpPr>
            <p:cNvPr id="255" name="Rectangle 2784"/>
            <p:cNvSpPr/>
            <p:nvPr/>
          </p:nvSpPr>
          <p:spPr>
            <a:xfrm>
              <a:off x="0" y="2722320"/>
              <a:ext cx="9144000" cy="39240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256" name="Rectangle 2787"/>
            <p:cNvSpPr/>
            <p:nvPr/>
          </p:nvSpPr>
          <p:spPr>
            <a:xfrm>
              <a:off x="0" y="3114720"/>
              <a:ext cx="9144000" cy="207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grpSp>
          <p:nvGrpSpPr>
            <p:cNvPr id="257" name="Group 2804"/>
            <p:cNvGrpSpPr/>
            <p:nvPr/>
          </p:nvGrpSpPr>
          <p:grpSpPr>
            <a:xfrm>
              <a:off x="522360" y="504720"/>
              <a:ext cx="1687320" cy="1204920"/>
              <a:chOff x="522360" y="504720"/>
              <a:chExt cx="1687320" cy="1204920"/>
            </a:xfrm>
          </p:grpSpPr>
          <p:sp>
            <p:nvSpPr>
              <p:cNvPr id="258" name="Rectangle 2795"/>
              <p:cNvSpPr/>
              <p:nvPr/>
            </p:nvSpPr>
            <p:spPr>
              <a:xfrm>
                <a:off x="522360" y="504720"/>
                <a:ext cx="163440" cy="1634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  <p:sp>
            <p:nvSpPr>
              <p:cNvPr id="259" name="Rectangle 2796"/>
              <p:cNvSpPr/>
              <p:nvPr/>
            </p:nvSpPr>
            <p:spPr>
              <a:xfrm>
                <a:off x="903240" y="804600"/>
                <a:ext cx="163440" cy="1638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  <p:sp>
            <p:nvSpPr>
              <p:cNvPr id="260" name="Rectangle 2797"/>
              <p:cNvSpPr/>
              <p:nvPr/>
            </p:nvSpPr>
            <p:spPr>
              <a:xfrm>
                <a:off x="1447920" y="641160"/>
                <a:ext cx="163440" cy="1634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  <p:sp>
            <p:nvSpPr>
              <p:cNvPr id="261" name="Rectangle 2798"/>
              <p:cNvSpPr/>
              <p:nvPr/>
            </p:nvSpPr>
            <p:spPr>
              <a:xfrm>
                <a:off x="1284120" y="1164960"/>
                <a:ext cx="163800" cy="1638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  <p:sp>
            <p:nvSpPr>
              <p:cNvPr id="262" name="Rectangle 2799"/>
              <p:cNvSpPr/>
              <p:nvPr/>
            </p:nvSpPr>
            <p:spPr>
              <a:xfrm>
                <a:off x="1665360" y="1546200"/>
                <a:ext cx="163440" cy="1634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  <p:sp>
            <p:nvSpPr>
              <p:cNvPr id="263" name="Rectangle 2800"/>
              <p:cNvSpPr/>
              <p:nvPr/>
            </p:nvSpPr>
            <p:spPr>
              <a:xfrm>
                <a:off x="2046240" y="1164960"/>
                <a:ext cx="163440" cy="1638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  <p:sp>
            <p:nvSpPr>
              <p:cNvPr id="264" name="Rectangle 2801"/>
              <p:cNvSpPr/>
              <p:nvPr/>
            </p:nvSpPr>
            <p:spPr>
              <a:xfrm>
                <a:off x="820800" y="1461960"/>
                <a:ext cx="163440" cy="1634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</p:grpSp>
      </p:grpSp>
      <p:grpSp>
        <p:nvGrpSpPr>
          <p:cNvPr id="265" name="Group 2805"/>
          <p:cNvGrpSpPr/>
          <p:nvPr/>
        </p:nvGrpSpPr>
        <p:grpSpPr>
          <a:xfrm>
            <a:off x="4983120" y="3298680"/>
            <a:ext cx="3657600" cy="741240"/>
            <a:chOff x="4983120" y="3298680"/>
            <a:chExt cx="3657600" cy="741240"/>
          </a:xfrm>
        </p:grpSpPr>
        <p:sp>
          <p:nvSpPr>
            <p:cNvPr id="266" name="AutoShape 2788"/>
            <p:cNvSpPr/>
            <p:nvPr/>
          </p:nvSpPr>
          <p:spPr>
            <a:xfrm>
              <a:off x="4983120" y="3298680"/>
              <a:ext cx="954360" cy="741240"/>
            </a:xfrm>
            <a:custGeom>
              <a:avLst/>
              <a:gdLst>
                <a:gd name="textAreaLeft" fmla="*/ 0 w 954360"/>
                <a:gd name="textAreaRight" fmla="*/ 954720 w 95436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267" name="AutoShape 2792"/>
            <p:cNvSpPr/>
            <p:nvPr/>
          </p:nvSpPr>
          <p:spPr>
            <a:xfrm>
              <a:off x="5888160" y="329868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268" name="AutoShape 2793"/>
            <p:cNvSpPr/>
            <p:nvPr/>
          </p:nvSpPr>
          <p:spPr>
            <a:xfrm>
              <a:off x="6772320" y="329868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269" name="AutoShape 2794"/>
            <p:cNvSpPr/>
            <p:nvPr/>
          </p:nvSpPr>
          <p:spPr>
            <a:xfrm>
              <a:off x="7686720" y="329868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pic>
        <p:nvPicPr>
          <p:cNvPr id="270" name="图片 27" descr=""/>
          <p:cNvPicPr/>
          <p:nvPr/>
        </p:nvPicPr>
        <p:blipFill>
          <a:blip r:embed="rId2"/>
          <a:stretch/>
        </p:blipFill>
        <p:spPr>
          <a:xfrm>
            <a:off x="7583400" y="1760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8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9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7840" y="1844280"/>
            <a:ext cx="848664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9900"/>
                </a:solidFill>
                <a:latin typeface="Times New Roman"/>
                <a:ea typeface="华文新魏"/>
              </a:rPr>
              <a:t>调查选题与文献梳理</a:t>
            </a:r>
            <a:endParaRPr b="1" lang="en-US" sz="4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619280" y="422100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东北财经大学统计学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http://stat.dufe.edu.c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굴림"/>
              </a:rPr>
              <a:t>2018.11.24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社会类选题设计</a:t>
            </a:r>
            <a:r>
              <a:rPr b="1" lang="en-US" sz="3000" spc="-1" strike="noStrike">
                <a:solidFill>
                  <a:srgbClr val="6699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我们的做法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56800" y="1447920"/>
            <a:ext cx="737244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建一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人左右的团队。要求思维活跃，文字写作能力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计能力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闻梳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提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的选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调研的意义进行排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考察可行性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确定调研假设（问卷草案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确定最终选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1042920" y="504036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Lucida Sans Unicode"/>
              </a:rPr>
              <a:t>社会类选题是性价比较高的选题类型，可以选择的领域和角度很多，多关注热点事件，冲击力较大的事件，对老百姓生活影响比较大的领域都是激发选题的好方法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Lucida Sans Unicode"/>
              </a:rPr>
              <a:t>对可行性要综合判断，好的选题可以放到较低的层次使之“可行”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实例：市场类选题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57160" y="1447920"/>
            <a:ext cx="7243920" cy="16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于炮台山山林溜达猪（企业）的大连市猪肉满意度调研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选题痛点：食品安全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企业痛点：信息不对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解决方案：提升信息化水平减少信息不对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内容占位符 2"/>
          <p:cNvSpPr/>
          <p:nvPr/>
        </p:nvSpPr>
        <p:spPr>
          <a:xfrm>
            <a:off x="995400" y="3933720"/>
            <a:ext cx="724212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굴림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굴림"/>
              </a:rPr>
              <a:t>晓芹”海参市场机会研究调查报告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굴림"/>
              </a:rPr>
              <a:t>大学生市场机会判断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굴림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굴림"/>
              </a:rPr>
              <a:t>选题痛点：深入反腐等因素导致海参市场销售停滞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굴림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굴림"/>
              </a:rPr>
              <a:t>企业痛点：价格战让企业生存困难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굴림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굴림"/>
              </a:rPr>
              <a:t>解决方案：发现空白市场的市场机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实例：社会类选题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小学及幼儿教育问题研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讨论可能存在的调查目的选题汇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d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点小组访谈进行探索性调查（深层访谈）幼儿园家长深度访谈提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d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小组编写探索性调查访谈报告第九组中小学深访报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d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访谈情况和调查目的起草问卷草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卷草案的讨论和修正形成问卷初稿问卷ｗｏｒ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d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  <a:ea typeface="굴림"/>
              </a:rPr>
              <a:t>试试看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Verdana"/>
              <a:ea typeface="굴림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622440" y="1542960"/>
            <a:ext cx="738000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稍早的新闻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971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文献梳理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文献梳理的作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告诉大家别人在做什么，怎么做，结果如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告诉自己别人这样做了，我该做什么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文献梳理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文献梳理的一个例子：文献综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docx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文献梳理中的常见问题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术型的文献综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术型的文献综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docx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我们为什么要避免学术型的文献综述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我要研究的问题前人没有研究过怎么办？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情况一：市场类项目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市场类项目很多情况下，你研究的企业本身并没有前期调研积累，但是研究的问题本身是前人研究过的，那么这些就是文献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如果你研究的确实是一个全新的问题，那么对于这个新问题的讨论、你要使用的分析方法都可以作为文献的内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然市场的现状、竞争的情况，也可以作为文献梳理的内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市场类题目文献综述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docx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情况二：社会类项目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社会类项目很多研究的是热点问题，而我们一般也不太使用复杂的统计方法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这时候我们可以使用爬虫技术，大量抓取网络的相关内容，以此来说明我们的选题、佐证我们的论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  <a:ea typeface="宋体"/>
              </a:rPr>
              <a:t>历届大赛选题分析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57160" y="1447560"/>
            <a:ext cx="7747200" cy="40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学生相关话题一直是大赛参选作品的热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表 3" descr=""/>
          <p:cNvPicPr/>
          <p:nvPr/>
        </p:nvPicPr>
        <p:blipFill>
          <a:blip r:embed="rId1"/>
          <a:stretch/>
        </p:blipFill>
        <p:spPr>
          <a:xfrm>
            <a:off x="1914480" y="2206800"/>
            <a:ext cx="5370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47840" y="1844280"/>
            <a:ext cx="848664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9900"/>
                </a:solidFill>
                <a:latin typeface="幼圆"/>
                <a:ea typeface="幼圆"/>
              </a:rPr>
              <a:t>谢 谢</a:t>
            </a:r>
            <a:endParaRPr b="1" lang="en-US" sz="6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57" name="Rectangle 1027"/>
          <p:cNvSpPr/>
          <p:nvPr/>
        </p:nvSpPr>
        <p:spPr>
          <a:xfrm>
            <a:off x="1619280" y="5013360"/>
            <a:ext cx="64008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东北财经大学统计学院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  <a:ea typeface="宋体"/>
              </a:rPr>
              <a:t>历届大赛选题分析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大学生类选题特点分析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选题难度低，话题容易找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操作难度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容易引起大学生共鸣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竞争激烈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难以得到评委共鸣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策略：回避，除非有好的切入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  <a:ea typeface="宋体"/>
              </a:rPr>
              <a:t>历届大赛选题分析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319" name="内容占位符 3" descr=""/>
          <p:cNvPicPr/>
          <p:nvPr/>
        </p:nvPicPr>
        <p:blipFill>
          <a:blip r:embed="rId1"/>
          <a:stretch/>
        </p:blipFill>
        <p:spPr>
          <a:xfrm>
            <a:off x="1474920" y="2535120"/>
            <a:ext cx="6449760" cy="383544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"/>
          <p:cNvSpPr/>
          <p:nvPr/>
        </p:nvSpPr>
        <p:spPr>
          <a:xfrm>
            <a:off x="900000" y="162864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Lucida Sans Unicode"/>
                <a:ea typeface="宋体"/>
              </a:rPr>
              <a:t>市场类选题在大赛中通常较少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  <a:ea typeface="宋体"/>
              </a:rPr>
              <a:t>历届大赛选题分析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市场类选题特点分析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选题难度大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操作难度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数据分析、问题分析要求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竞争力初期弱、后期强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大赛鼓励该类选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策略：市场类选题一定要当作精品来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  <a:ea typeface="宋体"/>
              </a:rPr>
              <a:t>历届大赛选题分析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324" name="内容占位符 3" descr=""/>
          <p:cNvPicPr/>
          <p:nvPr/>
        </p:nvPicPr>
        <p:blipFill>
          <a:blip r:embed="rId1"/>
          <a:stretch/>
        </p:blipFill>
        <p:spPr>
          <a:xfrm>
            <a:off x="1401840" y="2494080"/>
            <a:ext cx="6383160" cy="3693960"/>
          </a:xfrm>
          <a:prstGeom prst="rect">
            <a:avLst/>
          </a:prstGeom>
          <a:ln w="0">
            <a:noFill/>
          </a:ln>
        </p:spPr>
      </p:pic>
      <p:sp>
        <p:nvSpPr>
          <p:cNvPr id="325" name="TextBox 4"/>
          <p:cNvSpPr/>
          <p:nvPr/>
        </p:nvSpPr>
        <p:spPr>
          <a:xfrm>
            <a:off x="900000" y="162864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Lucida Sans Unicode"/>
                <a:ea typeface="宋体"/>
              </a:rPr>
              <a:t>社会类选题在大赛中一直是热门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  <a:ea typeface="宋体"/>
              </a:rPr>
              <a:t>历届大赛选题分析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社会类选题特点分析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选题难度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与大学生话题相比，撞车几率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操作难度通常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容易引起共鸣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性价比高，登顶有一定困难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策略：选好切入点就已经成功了一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  <a:ea typeface="宋体"/>
              </a:rPr>
              <a:t>历届大赛选题分析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关于调查区域的分析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传统面访调查一般都是局限在高校所在地的小区域范围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部分使用网络调查的范围会大一点，但是通常会存在代表性问题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更大范围的调查通常容易出精品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市场类选题设计思路</a:t>
            </a:r>
            <a:r>
              <a:rPr b="1" lang="en-US" sz="3000" spc="-1" strike="noStrike">
                <a:solidFill>
                  <a:srgbClr val="6699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我们的做法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57160" y="1447920"/>
            <a:ext cx="7531200" cy="33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组建一个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人左右的团队。要求思维活跃，具备较强的数据分析能力，文字写作能力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设计能力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模拟生活（一周）。要求：角色代入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提出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个以上的选题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讨论决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个备选选题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设计能体现商业价值的切入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委托方接触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确定最终选题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Box 3"/>
          <p:cNvSpPr/>
          <p:nvPr/>
        </p:nvSpPr>
        <p:spPr>
          <a:xfrm>
            <a:off x="1042920" y="522936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Lucida Sans Unicode"/>
              </a:rPr>
              <a:t>尽管市场类选题更看重解决实际问题的过程和结果，但是“有趣”的选题更容易引起共鸣。因此我们更喜欢与老百姓生活密切相关的选题，老百姓生活也是我们更容易接触到的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2:27:36Z</dcterms:created>
  <dc:creator>twt</dc:creator>
  <dc:description/>
  <dc:language>en-US</dc:language>
  <cp:lastModifiedBy>123</cp:lastModifiedBy>
  <dcterms:modified xsi:type="dcterms:W3CDTF">2018-11-16T01:40:41Z</dcterms:modified>
  <cp:revision>17</cp:revision>
  <dc:subject/>
  <dc:title>请输入标题</dc:title>
</cp:coreProperties>
</file>